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572B-AE9A-4637-AF03-66C399BBD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88D5-7139-4718-9665-B6D04359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DC3C-7737-4505-BD65-B97B7FF87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5203-99C5-47BF-A004-B0F4B40B1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ADFA-C13E-493D-957F-786490D6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95A2-53E0-4CD9-AFF6-C238113D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392E-BCBA-408D-BAE9-48557836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0CB4-FCD1-484D-B8E6-40761A08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8AE1-EBA8-4C43-AC2F-7327692E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FFD9-C740-431B-864E-860FA4C8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B266-3802-42CD-A8B5-9DE549F6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58DB-FC51-4943-9380-77122D12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B93C-573D-4C6D-A168-84B01D6B0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e world belongs to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earth and all its peo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See Psalm 24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ove and peace come toge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justice and peace join han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Psalm 85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How good and how lovely it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live together in uni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Psalm 133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f the Lord’s disciples keep sil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se stones would shout alou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Luke 19: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ord, open our l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our mouths shall proclai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prai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Psalm 51: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3:17:11Z</dcterms:created>
  <dc:creator>Anon Anon</dc:creator>
  <dc:description/>
  <dc:language>en-US</dc:language>
  <cp:lastModifiedBy>Anon Anon</cp:lastModifiedBy>
  <dcterms:modified xsi:type="dcterms:W3CDTF">2005-08-09T05:04:47Z</dcterms:modified>
  <cp:revision>6</cp:revision>
  <dc:subject/>
  <dc:title>PowerPoint Presentation</dc:title>
</cp:coreProperties>
</file>